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notesSlide49.xml" ContentType="application/vnd.openxmlformats-officedocument.presentationml.notesSlide+xml"/>
  <Override PartName="/ppt/notesSlides/notesSlide6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865B-F409-44E6-A672-0C65D903B625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5DA1-6A60-406C-97A1-D2EA8935B06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4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6AFC-8339-4FC1-B74C-4114C14DBE4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25994-404A-429D-948A-5591244516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8D28C-ABAB-4D0C-987D-771D2639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23983-DFF5-4FC4-9484-BC81B4AF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CD818-B3A5-450C-8BC1-637BBF13F8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C9006-79A2-49FC-B195-1122E0CE1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B5F5E-E654-4032-B26E-EB2DD7C45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3679C-F609-462E-A92E-F887673C1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BCF88-39DB-455C-8F40-2B5B13A81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D5226-CF43-46FC-A3E9-BDE67332B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2B00D-3B92-4EB3-A5FB-EFFB8CB2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585ED-7C98-4153-B605-41D58418B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E377E-1AF9-4CE6-BFED-C1987CE87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548DC-F524-43E9-8ADD-55F615E8BE8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hyperlink" Target="app:ds:nitrogen%20balance" TargetMode="Externa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2205000"/>
            <a:ext cx="4572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八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消化系统功能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02920" y="537372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华北理工大学护理与康复学院   景丽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44E4-FC93-480F-AEF1-409836ED96CA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E90E-48DD-45D2-9B9D-A7608C96A4A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4e0ec"/>
                </a:solidFill>
                <a:latin typeface="Verdana"/>
              </a:rPr>
              <a:t>腹痛的类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内脏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痛感弥散，定位不准确；疼痛过程缓慢、持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躯体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能准确反映病变刺激的部位，常引起肌紧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4e0ec"/>
                </a:solidFill>
                <a:latin typeface="Verdana"/>
              </a:rPr>
              <a:t>牵涉性疼痛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某个内脏病变所产生的痛觉信号，被定位于远离该内脏的身体其他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8119-5304-472A-A0A8-8DB07E13D54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837D7-1B24-48B7-94DF-9A8B1F98DF4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Verdana"/>
              </a:rPr>
              <a:t>腹痛的观察要点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7972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疼痛的部位、起始情况、程度、性质、时间 、与饮食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持续性、渐进性或是间歇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症状加重和缓解的因素及规律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伴随症状：发热、呕吐、排便的改变、腹胀、腹膜刺激征、皮肤与巩膜黄染。休克、神经精神症状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51B8F-70AE-47D6-BE9C-612D03785E50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A303-BB26-4AD3-B891-277BCAF0942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病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功能紊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查不到形态学的改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感染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细菌感染或化学刺激引起的病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出血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主要是血管破裂引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缺血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供血失常造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梗阻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空腔脏器及管道系统的通过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穿孔性疾病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空腔脏器穿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F7DB-CEB3-4C65-9ACF-06358515885F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A6CF7-74C5-4EBD-8F81-6B5EDF83F47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穿孔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胃十二指肠穿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突发性上腹部刀割样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舟状腹，迅速出现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、有气腹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鸣音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诊断性腹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68C2-8732-409A-8211-B281AFD2A187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D21A-E763-4D56-94D7-A8AAA7570DF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炎症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急性胆囊炎、胆管炎、胰腺炎、阑尾炎、胃肠炎、盆腔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有体温升高，血白细胞及中性粒细胞增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痛由轻到重，呈持续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有固定压痛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伴有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09559-83E8-42A1-850C-6BBFE81E8CBE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A1855-2947-4847-AFCF-24EA7016264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出血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肝脾破裂、腹主动脉瘤破裂、溃疡出血、食管胃底静脉曲张破裂、异位妊娠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多有外伤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以失血性表现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有不同程度的腹膜刺激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gt;5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积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腔穿刺：不凝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2401-8CA5-4B9F-8888-36CE41399C0A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CF570-3120-4DDA-AA9F-69C84AD8D43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000"/>
                </a:solidFill>
                <a:latin typeface="Verdana"/>
              </a:rPr>
              <a:t>失血性周围循环衰竭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心率增快、血压降低、脉压减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晕厥、口干、烦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量减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冷汗、面色苍白、皮肤湿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595B0-26F1-4EEC-91AF-A809F604AC8A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37C4-ABB5-46C8-BBCB-A9ECADD996B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爆炸形 2 5"/>
          <p:cNvSpPr/>
          <p:nvPr/>
        </p:nvSpPr>
        <p:spPr>
          <a:xfrm rot="20559000">
            <a:off x="3624120" y="4916160"/>
            <a:ext cx="5472360" cy="1152360"/>
          </a:xfrm>
          <a:prstGeom prst="irregularSeal2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5c8c"/>
                </a:solidFill>
                <a:latin typeface="Verdana"/>
              </a:rPr>
              <a:t>液体好难打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梗阻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肠梗阻、肠套叠、结石、胆道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起病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阵发性绞痛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初期多无腹膜刺激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伴随症状：呕吐，大便，黄疸，血尿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611C1-25DB-450C-92E2-05751C3A4B3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55D0-D1CA-4875-81F2-BAE05457804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缺血性病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：肠扭转、肠系膜动脉栓塞、绞窄性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病情发展迅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呈持续性腹痛阵发性加剧或持续剧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易出现腹膜刺激征或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BFC8-DA77-4C34-AC5B-3860D7C90A1F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6B69-A3F3-4FD7-9AA8-264F86F2179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1692360" y="2708280"/>
            <a:ext cx="688680" cy="593640"/>
            <a:chOff x="1692360" y="2708280"/>
            <a:chExt cx="688680" cy="593640"/>
          </a:xfrm>
        </p:grpSpPr>
        <p:sp>
          <p:nvSpPr>
            <p:cNvPr id="115" name="AutoShape 5"/>
            <p:cNvSpPr/>
            <p:nvPr/>
          </p:nvSpPr>
          <p:spPr>
            <a:xfrm>
              <a:off x="1697760" y="271836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1692360" y="2708280"/>
              <a:ext cx="683280" cy="583560"/>
            </a:xfrm>
            <a:prstGeom prst="hexagon">
              <a:avLst>
                <a:gd name="adj" fmla="val 29272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7"/>
            <p:cNvSpPr/>
            <p:nvPr/>
          </p:nvSpPr>
          <p:spPr>
            <a:xfrm>
              <a:off x="1732320" y="2743200"/>
              <a:ext cx="600480" cy="513360"/>
            </a:xfrm>
            <a:prstGeom prst="hexagon">
              <a:avLst>
                <a:gd name="adj" fmla="val 29243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8"/>
          <p:cNvSpPr/>
          <p:nvPr/>
        </p:nvSpPr>
        <p:spPr>
          <a:xfrm>
            <a:off x="1864080" y="27655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1692360" y="347040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827360" y="35528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1676520" y="4238640"/>
            <a:ext cx="686880" cy="593640"/>
            <a:chOff x="1676520" y="4238640"/>
            <a:chExt cx="686880" cy="593640"/>
          </a:xfrm>
        </p:grpSpPr>
        <p:sp>
          <p:nvSpPr>
            <p:cNvPr id="122" name="AutoShape 12"/>
            <p:cNvSpPr/>
            <p:nvPr/>
          </p:nvSpPr>
          <p:spPr>
            <a:xfrm>
              <a:off x="1681920" y="424872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3"/>
            <p:cNvSpPr/>
            <p:nvPr/>
          </p:nvSpPr>
          <p:spPr>
            <a:xfrm>
              <a:off x="1676520" y="42386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4"/>
            <p:cNvSpPr/>
            <p:nvPr/>
          </p:nvSpPr>
          <p:spPr>
            <a:xfrm>
              <a:off x="1716480" y="427356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5" name="Text Box 15"/>
          <p:cNvSpPr/>
          <p:nvPr/>
        </p:nvSpPr>
        <p:spPr>
          <a:xfrm>
            <a:off x="1844640" y="431496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Line 18"/>
          <p:cNvSpPr/>
          <p:nvPr/>
        </p:nvSpPr>
        <p:spPr>
          <a:xfrm>
            <a:off x="2428920" y="3270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19"/>
          <p:cNvSpPr/>
          <p:nvPr/>
        </p:nvSpPr>
        <p:spPr>
          <a:xfrm>
            <a:off x="2428920" y="4062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2428920" y="485460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矩形 21"/>
          <p:cNvSpPr/>
          <p:nvPr/>
        </p:nvSpPr>
        <p:spPr>
          <a:xfrm>
            <a:off x="2428920" y="2406600"/>
            <a:ext cx="521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一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消化系统应用生理（自学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矩形 22"/>
          <p:cNvSpPr/>
          <p:nvPr/>
        </p:nvSpPr>
        <p:spPr>
          <a:xfrm>
            <a:off x="2500200" y="3559320"/>
            <a:ext cx="37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二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临床监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矩形 23"/>
          <p:cNvSpPr/>
          <p:nvPr/>
        </p:nvSpPr>
        <p:spPr>
          <a:xfrm>
            <a:off x="2484360" y="4076640"/>
            <a:ext cx="57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1360" indent="-711360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第三节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重症胰腺炎患者的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急性腹痛的判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外科性急腹症：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</a:rPr>
              <a:t>先腹痛，后有发热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等伴随症状。腹痛或压痛部位比较固定，程度重。可伴腹膜刺激征</a:t>
            </a: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内科性急腹症：</a:t>
            </a:r>
            <a:r>
              <a:rPr b="1" lang="zh-CN" sz="2800" spc="-1" strike="noStrike">
                <a:solidFill>
                  <a:srgbClr val="99669b"/>
                </a:solidFill>
                <a:latin typeface="Verdana"/>
              </a:rPr>
              <a:t>先热后痛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，腹痛多无固定部位，程度轻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胃肠炎、心肌梗死、腹型过敏性紫癜、大叶性肺炎。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AAA89-7340-4748-B8F6-A7604B5C255D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9D2E-63AF-491B-B42C-CFE7136EE27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3D72F-3270-4D1B-9ED2-8BE9EEAEF54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CE8B-EECF-41AD-AABC-541782B61AE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</a:rPr>
              <a:t>腹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2771640" y="1628640"/>
            <a:ext cx="746784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膨隆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腹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压的测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12A7-DD38-4D59-8D74-BC96904599FE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88EF-0EC1-401E-8211-44466C81F75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内压测定：经导尿管膀胱测压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平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以耻骨联合作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排空膀胱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导尿管向膀胱内滴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生理盐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得平衡时水柱的高度即为腹腔内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2F9BE-D432-42CE-956B-CA5DD9BB6021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0AF3-3269-41AE-9099-DF1B24A21C7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间室综合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般来讲，腹腔内压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ntra—abdominal pressur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I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增加到</a:t>
            </a:r>
            <a:r>
              <a:rPr b="1" lang="en-US" sz="2800" spc="-1" strike="noStrike">
                <a:solidFill>
                  <a:srgbClr val="8a5c8c"/>
                </a:solidFill>
                <a:latin typeface="Verdana"/>
              </a:rPr>
              <a:t>&gt;25 cmH</a:t>
            </a:r>
            <a:r>
              <a:rPr b="1" lang="en-US" sz="2800" spc="-1" strike="noStrike" baseline="-25000">
                <a:solidFill>
                  <a:srgbClr val="8a5c8c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8a5c8c"/>
                </a:solidFill>
                <a:latin typeface="Verdana"/>
              </a:rPr>
              <a:t>O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时，就会引发脏器功能障碍，出现腹腔间隔室综合征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bdominal compartment syndrom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指继发于腹内压急剧升高的脏器功能不全。主要表现为恶心、呕吐、腹胀、呼吸困难、肠鸣音减弱或消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5EB47-A363-44C1-B96E-17D58838DACE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836BB-94B6-4254-A401-32C92F034C8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1979280" y="18446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痛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腹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呕吐与便血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89E5E-5C3F-4FA7-A3FC-2B3E57B0323B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E398-F93F-476B-9530-9672E1A84A2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  <a:ea typeface="宋体"/>
              </a:rPr>
              <a:t>呕吐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观察与记录呕吐次数与量、呕吐物性质、气味、颜色、有无隔宿食物。必要时留取标本送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胃内积血量达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25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30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时可引起呕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204B-5910-43CD-B6F0-B70F5565020C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CC98-CC69-4FD4-B1E0-13345FC92C7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留置胃管者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引流液的量与性状、气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管是否固定妥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畅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肠减压负压是否有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CF87F-F59D-4AAA-81BC-D902F9CA1323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C573-8896-4E2C-8A03-B4CF71946D1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云形标注 5"/>
          <p:cNvSpPr/>
          <p:nvPr/>
        </p:nvSpPr>
        <p:spPr>
          <a:xfrm>
            <a:off x="2448000" y="5057640"/>
            <a:ext cx="6696000" cy="180036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5c8c"/>
                </a:solidFill>
                <a:latin typeface="Verdana"/>
              </a:rPr>
              <a:t>“</a:t>
            </a:r>
            <a:r>
              <a:rPr b="0" lang="zh-CN" sz="3200" spc="-1" strike="noStrike">
                <a:solidFill>
                  <a:srgbClr val="8a5c8c"/>
                </a:solidFill>
                <a:latin typeface="方正舒体"/>
                <a:ea typeface="方正舒体"/>
              </a:rPr>
              <a:t>引流出黄绿色胃液”？吐啦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Verdana"/>
                <a:ea typeface="宋体"/>
              </a:rPr>
              <a:t>便血的观察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排便的次数与量、粪便性质、颜色、气味、有无里急后重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大便隐血实验阳性提示每日出血量大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5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1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出现黑便表明出血量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7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396C2-8D0B-4198-A056-FD7AA92737D0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37409-D083-476D-A5F8-D14460A021C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监测出血征象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记录呕血、黑便和便血的频度、颜色、性质、次数和总量，定期复查红细胞计数、血红蛋白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Hc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与血尿素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生命体征和循环状况：监测意识状态、脉搏和血压、肢体温度、皮肤和甲床色泽、周围静脉特别是颈静脉充盈情况、尿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2723-6535-4BC3-98ED-BEDC20E105A7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DA445-B0BA-4EE0-8559-C60FCBA778F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196640"/>
            <a:ext cx="72072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识记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消化系统常见临床症状、体征及评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急性重症胰腺炎疾病的临床表现和分期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理解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解释肝功能监测内容及临床意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解释营养状态评估的方法和意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比较不同营养支持方式的实施方法及适用范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描述急性重症胰腺炎的诊断和治疗要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运用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评估消化系统疾病患者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．评估重症胰腺炎患者并为其制订护理计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4DE9-49B6-4026-BB3B-9A92CEC7999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活动性出血的判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9640" y="898560"/>
            <a:ext cx="7467840" cy="59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呕血或黑便次数增多、颜色变鲜红。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胃管抽出物有较多鲜血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经快速输液输血，周围循环衰竭的表现未见明显改善，或虽暂时好转而又恶化，中心静脉压仍有波动，稍稳定又再下降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红细胞计数、血红蛋白测定和</a:t>
            </a:r>
            <a:r>
              <a:rPr b="1" lang="en-US" sz="2700" spc="-1" strike="noStrike">
                <a:solidFill>
                  <a:srgbClr val="8ac8de"/>
                </a:solidFill>
                <a:latin typeface="Verdana"/>
              </a:rPr>
              <a:t>Hct</a:t>
            </a: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继续下降，网织红细胞计数持续增高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75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8ac8de"/>
                </a:solidFill>
                <a:latin typeface="Verdana"/>
                <a:ea typeface="宋体"/>
              </a:rPr>
              <a:t>补液和尿量足够的情况下，血尿素氮持续或再次增高；</a:t>
            </a: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7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AAA65-1A51-4D49-B9E5-1CC2F3A0BFFA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BE44-7905-4CDE-8370-C8EA93F6D3A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b0f0"/>
                </a:solidFill>
                <a:latin typeface="Verdana"/>
              </a:rPr>
              <a:t>消化系统常见护理问题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疼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腹腔内器官炎症、出血、损伤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体液不足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腹腔内液体渗出、呕吐或禁食等所致的液体丢失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营养失调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减少进食量及异常消化功能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恐惧</a:t>
            </a:r>
            <a:r>
              <a:rPr b="1" lang="en-US" sz="2800" spc="-1" strike="noStrike">
                <a:solidFill>
                  <a:srgbClr val="ffc000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ffc000"/>
                </a:solidFill>
                <a:latin typeface="Verdana"/>
              </a:rPr>
              <a:t>焦虑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：与腹痛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2E288-8325-4E04-9E7B-510D916310C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9DC2-615C-48CD-9A4D-E6623DF2451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b0f0"/>
                </a:solidFill>
                <a:latin typeface="Verdana"/>
              </a:rPr>
              <a:t>急性腹痛未明确诊断前：</a:t>
            </a:r>
            <a:r>
              <a:rPr b="1" lang="zh-CN" sz="3200" spc="-1" strike="noStrike">
                <a:solidFill>
                  <a:srgbClr val="ffc000"/>
                </a:solidFill>
                <a:latin typeface="Verdana"/>
              </a:rPr>
              <a:t>五禁四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11280" y="1628640"/>
            <a:ext cx="4039920" cy="39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食、水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用止痛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用热敷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灌肠及使用泄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禁止活动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140000" y="1699920"/>
            <a:ext cx="421452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休克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感染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水、电解质和酸碱失衡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</a:rPr>
              <a:t>抗腹胀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4C4F3-2705-42D1-AFF7-2A91D61305B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灯片编号占位符 7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54E0-7F17-4BA2-8276-EB3D2DAA8FA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000"/>
                </a:solidFill>
                <a:latin typeface="Verdana"/>
                <a:ea typeface="宋体"/>
              </a:rPr>
              <a:t>减轻疼痛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非休克患者取半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食和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痉和镇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2887-6F80-4FF3-A81A-010ED299B090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B94B-6F60-42A3-93F3-33464FC95F4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二、肝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精神状态及意识状态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黄疸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清酶学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凝血功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清蛋白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氨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一）血清蛋白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总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T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8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球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球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意义：慢性肝炎、肝硬化时常出现白蛋白减少而球蛋白增加，使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/G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比例倒置。白蛋白主要在肝中制造，一般白蛋白量越多，人体越健康，影响机体的胶体渗透压水平。球蛋白大部分在肝细胞外生成，球蛋白与人体的免疫力有关系，球蛋白要保持一定的量，球蛋白值偏高说明体内存在免疫系统的亢进，偏低说明免疫力不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178920" y="1125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胆红素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总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7.1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0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，直接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m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，间接胆红素的正常值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3.7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临床意义：主要用于诊断肝疾病和胆道梗阻。当肝发生炎症、坏死、中毒等损害均可以引起黄疸，胆道疾病及溶血性疾病也可以引起黄疸。以直接胆红素升高为主常见于原发性胆汁型肝硬化、胆道梗阻等。以间接胆红素升高为主常见于溶血性疾病、新生儿黄疸或者输血错误等。肝炎与肝硬化患者的直接胆红素与间接胆红素都可以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胆红素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特别说明：一般来说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的黄疸，视诊不易察出，称为隐性黄疸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轻度黄疸；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中度黄疸；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高度黄疸。完全阻塞性黄疸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4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1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不完全阻塞者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65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肝细胞性黄疸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0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溶血性黄疸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5μmol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600"/>
            <a:ext cx="8610480" cy="47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血清酶学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05280" indent="-305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3" descr=""/>
          <p:cNvPicPr/>
          <p:nvPr/>
        </p:nvPicPr>
        <p:blipFill>
          <a:blip r:embed="rId1"/>
          <a:stretch/>
        </p:blipFill>
        <p:spPr>
          <a:xfrm>
            <a:off x="324000" y="1844640"/>
            <a:ext cx="856908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四）血氨的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血氨正常值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μmol/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意义：血氨值偏高可能影响肝病患者肝昏迷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消化系统的主要生理功能是摄取和消化食物、吸收营养和排泄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肝性脑病为例讲授重症消化患者护理评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点内容之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急性重症胰腺炎患者重症监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重点内容之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营养素的调理作用，调节免疫功能，增强机体抗病能力，从而影响疾病的发展与转归，这是实现危重症患者营养支持的总目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营养状态的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评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通过人体测量、实验室检查及综合营养评定方法等手段，判定人体营养状况，确定营养不良的程度及类型，并监测营养支持疗效的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皮褶厚度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可推断全身脂肪含量、判断皮下脂肪发育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测定部位主要有上臂肱三头肌、肩胛下角部及腹部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上常用肱三头肌皮褶厚度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SF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测定：在右上臂后面肩峰与鹰嘴连线的中点，夹取与上肢长轴平行的皮褶，纵向测量。正常参考值男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2.5m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女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6.5m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实测值在正常值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以上为正常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体脂轻度亏损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中度亏损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重度亏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、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上臂肌围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M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间接反映机体内蛋白质储存情况，与血清白蛋白水平相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M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=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臂围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4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肱三头肌皮褶厚度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臂肌围参考值男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4.8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女性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1.0cm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实测值在参考值的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以上为正常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轻度营养不良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中度，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为重度。测量上臂围时，被测者上臂自然下垂，取上臂中点，用软尺测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血清白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rum album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L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持续低白蛋白血症被认为是判定营养不良的可靠指标。正常参考范围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若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营养不良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则为重度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转铁蛋白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ransferri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RF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评定蛋白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热量营养不良时更为敏感。正常参考范围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0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5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属于中度营养不良，小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g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严重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52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肌酐身高指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H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氮平衡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1"/>
              </a:rPr>
              <a:t>nitrogen balanc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N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评定机体蛋白质营养状况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最可靠和最常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的指标。一般食物的蛋白质中氮的平均含量为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％。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NB =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蛋白质摄入量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6.2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[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中尿素氮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]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其中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/d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为人体每天通过呼吸道、粪便、汗液及尿中其他形式排出的氮。若氮摄入量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=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氮排出量为氮平衡，氮摄入量＞氮排出量为正氮平衡，氮摄入量＜氮排出量为负氮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免疫功能评定：危重症患者中蛋白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-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热量营养不良者，常伴有细胞免疫功能减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总淋巴细胞计数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L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：是目前评定细胞免疫功能的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简易方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L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正常，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2-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轻度营养不良，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-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中度营养不良，＜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×10</a:t>
            </a:r>
            <a:r>
              <a:rPr b="1" lang="en-US" sz="2800" spc="-1" strike="noStrike" baseline="30000">
                <a:solidFill>
                  <a:srgbClr val="8ac8de"/>
                </a:solidFill>
                <a:latin typeface="Verdana"/>
              </a:rPr>
              <a:t>8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者为重度营养不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皮肤迟发型超敏反应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DH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61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综合营养评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684360" y="1989000"/>
            <a:ext cx="778500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重症患者常合并代谢紊乱与营养不良，需要给予营养支持；且应尽早开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计算机体能量消耗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1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）基础热量消耗（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basal energy expenditur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，</a:t>
            </a:r>
            <a:r>
              <a:rPr b="1" lang="en-US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BEE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男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66.4+13.7×W+5.0×H-6.8×A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女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66.5+9.6×W+1.8×H-4.7×A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静息能量消耗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：餐后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h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上，合适温度下，安静平卧或静坐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mi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以上所测得的人体能量消耗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较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％左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男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5.48×H +11.51×W-3.47×A-189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女性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RE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ca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=2.95×H +8.73×W-1.94×A+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5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危重症患者的营养支持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计算总能量需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公式计算法：在活动、应激和发热时，危重症患者，公式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EE=BEE×AF×IF×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计算得出，其中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A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活动系数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I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应激系数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体温系数，以正常体温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的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TF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体温每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系数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0.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活动系数和应激系数见教材（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和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5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6920" y="1699920"/>
            <a:ext cx="7772400" cy="250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</a:rPr>
              <a:t>第二节   临床监护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简易估算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总能量可以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 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计算，但不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重症患者急性应激期营养支持应掌握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“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允许性低热卡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”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原则，能量补充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在应激与代谢状态稳定后能量供给需要适当的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5kcal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否则将难以纠正患者的低蛋白血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确定各种营养物质的供给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非蛋白供能物质：以碳水化合物、脂肪共同供能为首选。碳水化合物与脂肪热量比可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碳水化合物的供给量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00g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，而脂肪乳剂所提供的脂肪量，通常每日不宜超过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5g/k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蛋白质：正常情况下，足够的蛋白质供给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.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.0g/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kg·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危重症患者热氮比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50kca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在严重应激下，尤其是对重症肺炎，热氮比应适当降至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30kca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∶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24000" y="1197000"/>
            <a:ext cx="86104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确定各种营养物质的供给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水及电解质：可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0ml/k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估计液体的需要量，再加上丢失量，即为液体补充量；体温升高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基础体温）时，需增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00ml/d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的入量。正常成年人电解质日需要量分别为：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0-12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氯化钠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.8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.0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钾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2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氯化钾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6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9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钙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-10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葡萄糖酸钙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6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.5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，镁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5mmol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即硫酸镁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.7g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微量营养素：包括水溶性维生素、脂溶性维生素和必需微量元素。目前药品市场上复合性多种维生素和微量元素制剂较多，使用方便、安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确定营养支持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外营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arenteral nutri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内营养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enteral nutri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E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两种方法共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外营养输注途径与方式，周围静脉或中心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肠外、肠内营养支持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适应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途径选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液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输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并发症及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468360" y="2204640"/>
            <a:ext cx="827568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第三节  急性重症胰腺炎患者的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胰腺炎伴有脏器功能障碍，或出现坏死、脓肿或假性囊肿等局部并发症者，或两者兼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腹部体征有上腹部明显的压痛、反跳痛、肌紧张、腹胀、肠鸣音减弱或消失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包块，偶见腰肋部皮下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淤斑征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Grey-Tumer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征）和脐周皮下淤斑征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ullen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征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可并发一个或多个脏器功能障碍，或严重代谢功能紊乱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增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为诊断胰腺坏死的最有效方法，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超及腹腔穿刺对诊断有一定帮助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APACHE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分。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althazar 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分级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系统≥Ⅱ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概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重症胰腺炎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的诊断标准为：有急性胰腺炎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的临床表现和生化改变，且具备下列条件之一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并发症（胰腺坏死、脓肿或假性囊肿等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②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个或多个器官衰竭，可伴有严重的代谢功能紊乱，包括低钙血症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③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Ranson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④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PACHE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分≥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⑤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Balthazar CT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分级≥Ⅱ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患者，男性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主诉：上腹部疼痛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d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加重伴恶心呕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h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现病史：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d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前患者因朋友聚会，共饮白酒约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50m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于夜间出现上腹部疼痛，持续性伴阵发性加剧，伴后腰部放散痛，自服止痛药效果不明显，屈膝侧卧位疼痛略缓解。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h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前腹痛加重，伴恶心、呕吐，呕吐物为胃内容物，并有发热，体温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7.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无寒战。于我院门诊急检尿淀粉酶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000IU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淀粉酶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400IU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为求进一步诊治入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既往史：否认糖尿病、高血压病史及家族史，否认肝炎及结核病史，无药物过敏史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体格检查：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T 36.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℃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P 8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R 16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BP 120/80mmHg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神清语明，皮肤黏膜未见异常，浅表淋巴结未触及肿大。双肺呼吸音清晰，未闻及干湿音，心率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84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分，节律规整，心脏各瓣膜听诊区未闻及病理性杂音。腹平软，左上腹压痛，无反跳痛及肌紧张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Murphy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征阴性，肝肋下未触及。双下肢无水肿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辅助检查血常规：白细胞 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1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9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NE%78%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红细胞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28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12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小板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20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×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en-US" sz="2400" spc="-1" strike="noStrike" baseline="30000">
                <a:solidFill>
                  <a:srgbClr val="8ac8de"/>
                </a:solidFill>
                <a:latin typeface="宋体"/>
                <a:ea typeface="宋体"/>
              </a:rPr>
              <a:t>9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钾离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3.1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钙离子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2.0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，血糖</a:t>
            </a:r>
            <a:r>
              <a:rPr b="1" lang="en-US" sz="2400" spc="-1" strike="noStrike">
                <a:solidFill>
                  <a:srgbClr val="8ac8de"/>
                </a:solidFill>
                <a:latin typeface="宋体"/>
                <a:ea typeface="宋体"/>
              </a:rPr>
              <a:t>10.1mmol/L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请问应如何对该患者进行评估与护理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9B8A-F5E0-4788-8494-0943FBB7DA5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199EE-F44A-4BE4-A5C8-1753916E218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3" name="组合 20"/>
          <p:cNvGrpSpPr/>
          <p:nvPr/>
        </p:nvGrpSpPr>
        <p:grpSpPr>
          <a:xfrm>
            <a:off x="539640" y="1413000"/>
            <a:ext cx="8064720" cy="4319640"/>
            <a:chOff x="539640" y="1413000"/>
            <a:chExt cx="8064720" cy="4319640"/>
          </a:xfrm>
        </p:grpSpPr>
        <p:pic>
          <p:nvPicPr>
            <p:cNvPr id="144" name="矩形 9" descr=""/>
            <p:cNvPicPr/>
            <p:nvPr/>
          </p:nvPicPr>
          <p:blipFill>
            <a:blip r:embed="rId1"/>
            <a:stretch/>
          </p:blipFill>
          <p:spPr>
            <a:xfrm>
              <a:off x="539640" y="1413000"/>
              <a:ext cx="1831320" cy="431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矩形 10"/>
            <p:cNvSpPr/>
            <p:nvPr/>
          </p:nvSpPr>
          <p:spPr>
            <a:xfrm>
              <a:off x="3142440" y="1429560"/>
              <a:ext cx="5461920" cy="100044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患者及家属：</a:t>
              </a:r>
              <a:r>
                <a:rPr b="0" lang="zh-CN" sz="3200" spc="-1" strike="noStrike">
                  <a:solidFill>
                    <a:srgbClr val="ff0000"/>
                  </a:solidFill>
                  <a:latin typeface="Verdana"/>
                </a:rPr>
                <a:t>病史、</a:t>
              </a: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心理社会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6" name="矩形 11"/>
            <p:cNvSpPr/>
            <p:nvPr/>
          </p:nvSpPr>
          <p:spPr>
            <a:xfrm>
              <a:off x="3142440" y="3002040"/>
              <a:ext cx="5461920" cy="107136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患者：主诉、</a:t>
              </a:r>
              <a:r>
                <a:rPr b="0" lang="zh-CN" sz="3200" spc="-1" strike="noStrike">
                  <a:solidFill>
                    <a:srgbClr val="ff0000"/>
                  </a:solidFill>
                  <a:latin typeface="Verdana"/>
                </a:rPr>
                <a:t>体格检查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7" name="矩形 12"/>
            <p:cNvSpPr/>
            <p:nvPr/>
          </p:nvSpPr>
          <p:spPr>
            <a:xfrm>
              <a:off x="3142440" y="4716360"/>
              <a:ext cx="5461920" cy="1000440"/>
            </a:xfrm>
            <a:prstGeom prst="rect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9669b"/>
                  </a:solidFill>
                  <a:latin typeface="Verdana"/>
                </a:rPr>
                <a:t>临床症状、体征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8" name="左箭头 13"/>
            <p:cNvSpPr/>
            <p:nvPr/>
          </p:nvSpPr>
          <p:spPr>
            <a:xfrm>
              <a:off x="2423160" y="178740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左箭头 16"/>
            <p:cNvSpPr/>
            <p:nvPr/>
          </p:nvSpPr>
          <p:spPr>
            <a:xfrm>
              <a:off x="2423160" y="343080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左箭头 17"/>
            <p:cNvSpPr/>
            <p:nvPr/>
          </p:nvSpPr>
          <p:spPr>
            <a:xfrm>
              <a:off x="2423160" y="5073840"/>
              <a:ext cx="648000" cy="285120"/>
            </a:xfrm>
            <a:prstGeom prst="leftArrow">
              <a:avLst>
                <a:gd name="adj1" fmla="val 50000"/>
                <a:gd name="adj2" fmla="val 50294"/>
              </a:avLst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恶心、呕吐及腹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发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水、电解质及酸碱平衡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低血压和休克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Grey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－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urne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征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ulle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．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液体积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胰腺假性囊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胰腺脓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胰腺及胰周组织坏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急性呼吸窘迫综合征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RD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其他：急性肾衰竭、心律失常或心力衰竭、肝功能衰竭、消化道出血、败血症、胰性脑病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实验室检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白细胞计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血清脂肪酶测定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血清脂肪酶常在起病后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2h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开始上升，持续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天，对病后就诊较晚的急性胰腺炎患者有诊断价值，且特异性也较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淀粉酶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注：诊断中应注意淀粉酶的高低不一定反映病情轻重，出血坏死型胰腺炎淀粉酶值可正常或低于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反应蛋白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RP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其他生化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．影像学检查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线：急性期可见“哨兵袢”和“结肠切割征”，是胰腺炎的间接指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超：可以观察胰腺形态及有无胆道结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）腹部增强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：是近年来被广泛接受的敏感确诊急性胰腺炎的方法。在口服或静脉注射增强造影剂后，可以得到清晰的胰腺图像，是诊断胰腺坏死的金标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一般采取非手术治疗以维护器官功能，感染性坏死采用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病因治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胆源性：有胆道梗阻者及时解除梗阻。若无胆道梗阻者先行非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高血脂性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酒精性：禁食和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抑制胰酶分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①禁食和胃肠减压；②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早期静脉滴注抑肽酶、加贝酯；③应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H</a:t>
            </a:r>
            <a:r>
              <a:rPr b="1" lang="en-US" sz="2800" spc="-1" strike="noStrike" baseline="-25000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受体拮抗剂或质子泵抑制剂；④应用生长抑素及其衍生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抗生素应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选用对肠道异位细菌敏感且对胰腺有较好渗透性的抗生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纠正水、电解质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营养支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A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患者早期条件允许即给予营养支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治疗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并发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7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中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腹腔灌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适用于出血坏死型胰腺炎伴大量腹腔渗液者，可清除胰腺渗出物和释放的胰酶等有毒物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9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．手术治疗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出血坏死性胰腺炎经内科治疗无效，或胰腺炎并发脓肿、假性囊肿、弥漫性腹膜炎、肠穿孔、肠梗阻及肠麻痹坏死时，需行手术治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f0"/>
                </a:solidFill>
                <a:latin typeface="方正舒体"/>
                <a:ea typeface="方正舒体"/>
              </a:rPr>
              <a:t>护理诊断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疼痛   与胰腺及其周围组织炎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液不足  与体液外渗及血管扩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体温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失调  低于机体需要量，与禁食、呕吐、胃肠减压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织灌注不足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胰腺出血坏死，腹腔、腹膜后大量渗液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恐惧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与腹痛剧烈及病情进展急骤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419040" indent="-382680">
              <a:spcBef>
                <a:spcPts val="700"/>
              </a:spcBef>
              <a:buClr>
                <a:srgbClr val="ddb523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潜在并发症：休克、急性肾衰竭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ARD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胰性脑病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心力衰竭、感染和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9656-AEA3-472F-9867-93886922F50D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6ABD-1718-4367-83B6-769FF9FFB0B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1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一般护理措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禁食、胃肠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遵医嘱给予镇痛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预防和迅速纠正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密监测患者的体温变化，必要时给予物理降温或药物降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基础护理：保持患者清洁，协助调整体位，及时清除排泄物及渗出液，做好患者的皮肤保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0C2A-4AC0-4B55-B0FF-B6BA53C62FF6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3C7D-DE5B-4915-819C-BBD136777EE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病史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日常生活习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患病的起始情况、主要症状及其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既往检查、治疗经过及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既往疾病史及药物史、心理社会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C295-4275-4423-91B4-F82A1FB93A5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9473B-9A5E-4153-85BC-1B2CDCDF56D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2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急性反应期的监测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基本生命体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神智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H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RR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PO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循环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VP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尿量、皮肤黏膜、肢端循环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呼吸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呼吸频率、状态、肺部听诊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FiO</a:t>
            </a:r>
            <a:r>
              <a:rPr b="1" lang="en-US" sz="1800" spc="-1" strike="noStrike">
                <a:solidFill>
                  <a:srgbClr val="8ac8d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  <a:ea typeface="宋体"/>
              </a:rPr>
              <a:t>2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血气分析、胸部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消化监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营养状况、黄疸、腹部体征（外观、腹膜刺激征、腹水、腹压）、胃肠功能（肠鸣、胃液、大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其他器官功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肾功、肝功、血糖、血尿淀粉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84569"/>
                </a:solidFill>
                <a:latin typeface="Verdana"/>
                <a:ea typeface="宋体"/>
              </a:rPr>
              <a:t>辅助检查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：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线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B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超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T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、其他实验室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5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8C4D2-AF5B-4FCB-8DD9-6336B4626827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6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43A32-46A2-4390-9A48-4DAAEFE3DEA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3.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血糖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严密监测血糖及与血糖改变相关的症状和体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若在排除休克的情况下患者出现出冷汗、旋晕、意识水平下降等，应考虑低血糖反应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血糖浓度居高不下或波动太大，最好能每小时监测血糖，根据血糖水平调整外源性胰岛素补充的量及速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9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0584-A67F-47E5-B310-F4C00D9C5EBD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0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9530-571D-47EC-B17C-35386934FB5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67616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4.1 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感染的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0" y="1267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应安置于一个环境清洁、相对隔离的单间，保持室内合适的温度及湿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监测患者的体温，高热患者应每小时监测体温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监测气道分泌物、尿液、腹腔引流液的性状、气味、颜色及细菌学检查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各种引流管道通畅，做好各种管道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保持引流口及伤口无菌，敷料清洁、干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9767-210A-4274-BAB3-18C5974B107C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69EA-6261-4B4D-A3FC-D4578D657EE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4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感染的控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42920" y="1071360"/>
            <a:ext cx="925344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进行各种侵入性操作时应严格遵循无菌原则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做好人工气道护理，合理进行人工气道湿化及胸部理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积极治疗各种感染病灶，包括褥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改善患者营养，增强机体抵抗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根据药物敏感试验合理使用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8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4902-C79C-43A7-A3A0-88AB977CC52E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8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3CEB-144B-45D4-8BA1-3F5FB292C38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1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SAP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常见管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管、鼻肠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气管插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中心静脉置管、血透用股静脉置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腔引流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肛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53BD2-F81E-497D-BC2A-931F7720D772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BB40-97DF-42B5-8222-920A10423A8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明确标记 ：名称、更换日期，记录长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妥善固定，尤其翻身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引流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密闭，严格无菌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皮肤的护理，及时更换敷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准确记录引流物的量及性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73D09-E827-49A6-9834-417A998FB268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5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AE90-37F6-48C3-9F59-470326DCDAC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SAP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常见管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防移位和滑脱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记录导管插入深度，在鼻翼和同侧面颊处用宽胶布双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防堵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每次灌注营养液前后均用温水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0m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冲洗管道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持续输注者应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小时冲洗管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未使用者至少每天冲洗管道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黑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CA11-FF8C-46B1-972B-148448115F0D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9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D5349-47F8-4346-83F1-1211FD8CB52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0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3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鼻空肠管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37720" y="234720"/>
            <a:ext cx="80773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8a5c8c"/>
              </a:solidFill>
              <a:latin typeface="Verdana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250560" y="160020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保持有效的负压引流，负压宜大，以能吸引出腹腔液体、引流管周围无渗出液为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见坏死组织堵塞管道，应及时挤压维持通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有血性液引出，应立即减小负压并通知医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Times New Roman"/>
              </a:rPr>
              <a:t>密切观察冲洗液与引流液在量上的对比及引流液的量、色、性、味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3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3D12-CEBF-4A40-82CF-A0C6714693F0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4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D325-027B-42C7-ADA9-D5C5B370417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5" name="标题 1"/>
          <p:cNvSpPr/>
          <p:nvPr/>
        </p:nvSpPr>
        <p:spPr>
          <a:xfrm>
            <a:off x="990720" y="457200"/>
            <a:ext cx="80769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5.4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管道护理</a:t>
            </a: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: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腹腔引流管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完整性受损的危险因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部长期受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渗液浸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造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8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32DF-FF4D-4F61-93DF-4F431F8C8DB9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09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2B42C-60E5-476E-94C3-E1A333AA2C9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.1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加强会阴及肛周的清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涂紫草油、鞣酸、皮肤保护膜等进行皮肤保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留置肛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局部长期受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使用气垫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定时翻身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水胶体敷料保护受压部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2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83D58-8C67-4DF1-93ED-5F44B872798A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3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D6C2A-9FD5-4F59-BF7F-0495A81A218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体格检查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视诊：营养情况、皮肤黏膜、腹部外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听诊：肠鸣音、血管杂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触诊：腹部紧张度、有无压痛及反跳痛及其发生部位与程度；肝脾、包块及其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叩诊：实音、鼓音、移动性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B114-86E9-4B5C-A246-F257732985A9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F68B-E256-406E-98A3-890685C2D34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6.2</a:t>
            </a:r>
            <a:r>
              <a:rPr b="0" lang="zh-CN" sz="4000" spc="-1" strike="noStrike">
                <a:solidFill>
                  <a:srgbClr val="ffffff"/>
                </a:solidFill>
                <a:latin typeface="方正舒体"/>
                <a:ea typeface="方正舒体"/>
              </a:rPr>
              <a:t>皮肤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造瘘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造口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腹部渗液浸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维持腹腔引流管有效的负压吸引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及时更换浸湿的敷料及床单，清洁皮肤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使用皮肤保护膜等隔离措施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5c8c"/>
                </a:solidFill>
                <a:latin typeface="Verdana"/>
              </a:rPr>
              <a:t>营养不良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6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DA94-674D-4D4A-919A-14D0E75402E5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17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B731-E732-466E-994C-039F15C79F6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419" name="矩形 4" descr=""/>
          <p:cNvPicPr/>
          <p:nvPr/>
        </p:nvPicPr>
        <p:blipFill>
          <a:blip r:embed="rId1"/>
          <a:stretch/>
        </p:blipFill>
        <p:spPr>
          <a:xfrm>
            <a:off x="2371680" y="2762280"/>
            <a:ext cx="436392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4e0ec"/>
                </a:solidFill>
                <a:latin typeface="Verdana"/>
              </a:rPr>
              <a:t>消化系统的常见症状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厌食、恶心呕吐、嗳气与反酸、咽下困难、胸骨或剑突下烧灼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胀、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与粪便性状、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呕血、便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皮肤与巩膜黄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52AA-6517-4E7B-BFFA-48BABCFB5F94}" type="datetime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灯片编号占位符 4"/>
          <p:cNvSpPr/>
          <p:nvPr/>
        </p:nvSpPr>
        <p:spPr>
          <a:xfrm>
            <a:off x="8153280" y="6421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13009-8648-4210-A9D6-8506D63FF28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30:58Z</dcterms:modified>
  <cp:revision>8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